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DFD-5D8F-459D-8841-9B6CB1BC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B8D-0244-4610-B5A9-F53C57CA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21D-0C45-4016-8ECF-4927E707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09F-EABD-4371-9E1C-A9854262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78B8-D605-4AEE-A700-C1D98541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2109-A43C-4E43-86FF-BF12CD3A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D6A8-FB5F-4F31-A263-51E97881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26A4-ECC0-48C6-B9F8-D10B0940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2F0C-8F7A-4358-A528-9C5A2150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884D-6DE0-4266-8092-B0A324B8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406D-4114-48CC-8937-823F4E3F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958-2814-485B-A31B-3E0DCDC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A6A7-7F78-4CAB-978B-D5EED626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CF90-E1F8-46AB-8431-367E22E6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76D6-2FDF-4D0D-B1A0-4EA66844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6752-DF4F-47FE-AAB0-F11571BE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654A-74A9-4EBB-A16B-E606C342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321-735C-4AE2-9794-44A787B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4D6-47A9-48D5-A7B9-2C862A9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B65-3DBC-442D-867D-4AAF8A38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73F-480E-4218-B299-4764A85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906-6B00-4D2C-8BF5-D3C87B3F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5AAF-31D0-408D-9998-420A63E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9BA-70E8-4665-A97E-0E27BF1E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75DB-CF47-4BB7-B14D-F6AFA91AA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CA7E-A54F-4FE1-B181-165FC15B7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ff00"/>
                </a:solidFill>
                <a:latin typeface="Times New Roman"/>
              </a:rPr>
              <a:t>Тақырып 5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413000"/>
            <a:ext cx="8540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ff"/>
                </a:solidFill>
                <a:latin typeface="Times New Roman"/>
              </a:rPr>
              <a:t>Метрология           бойынша      халықаралық  ұйымдар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ӨСХБ ғылыми және тәжірибелік қызметінің бағдар-ламаларын өлшемдер мен салмақтар жөніндегі Бас конференция бекітеді. Ол - бірліктерді, олардың анықтамалары мен бейнелеу әдістері жөніндегі жоғарғы халықаралық орган. Оның жүмысына Конвенцияға қосылған барлық елдер қатыса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ас конференция төрт жылда бір рет жиналады, ең алғашқысы 1898 жылы өтті. Конференциялар арасындағы уақытта ӨСХ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тарын конференцияда сайланатын ӨСХК басқарады. Комитет қүрамына әлемнің ірі физиктері мен метрологтары кіреді, барлығы 18 мүше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Өлшем мен салмақтардың халықаралық комитеті қүрамында 8 Кеңесшілік комитет жүмыс істейді, олар Бас конференция үшін материалдар мен шешімдерді дайындайды. Комитеттер атаулары ӨСХ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қызметінің ауқымын көрсетеді: электр бойынша, термометрия бойынша, масса бойынша, фотометрия жөне иондағыш сәулелену үшін эталондар бойынша комитеттер. ӨСХҮ-на мүше мемлекеттер атынан комитеттерде олардың ғылыми институттары ж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ыс істейді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ӨСХҮ мүшесі ретінде Қазақстан уа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ыт шкаласын хал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ық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ралық атомдық уақыт шкаласымен үнемі салыстырып отырады. Б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 шкаланы белгілеуде АҚШ, ГФР, Канаданың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ттық эталондары, арнаулы байланыс серіктері, ж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ысшы эталондар және батыс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палық мемлекеттердің жиіліктің өнеркәсіптік атомдық стандарттары пайдаланылады. Қазақстанға ол уақыт пен жиіліктің мемлекеттік алғашқы эталонының берілген дәлдігін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п түруға мүмкіндік береді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785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алықаралың заңдылық метрология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ы (ХЗМҮ) 1956 жылы қол қойылған үкіметаралық Конвенция негізін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ылған.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 80-нен астам елдерді біріктіреді. ХЗМҮ-ның мақсаты - заңдылық метрологияның жалп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мәселелері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асау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Халықаралық заңдылық метрология ұйы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ның ішінде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4000"/>
            </a:b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лдары дәлдігінің кластарын белгілеу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600"/>
            </a:b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өлшеу аспаптарының түрін, үлгілері және жүйелерін анықтау бірегейлігін қамтамасыз ету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600"/>
            </a:b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трологиялық сипаттамаларды жаңғырту үшін оларды сынау бойынша н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улар жасау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600"/>
            </a:b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лдарын салыстырып тексеру және калибрлеу тәртібін белгілеу</a:t>
            </a: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лыстырып тексеру аппараттарын, эталондық, үлгілік және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шы өлшегіш аспаптарды салыстыр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лыстырып тексеру және аттестаттау әдістерін үйлестір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трология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қызметт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стырудың оңтайлы нысандарын жасау және оларды қолдану бойынша мемлекеттік нүсқаулардың бірлігін қамтамасыз ет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;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амушы елдерге метрология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қызметтер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у мен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тары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стыруда және оларды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-жабдықтармен қамтамасыз етуде ғылыми-техника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ы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қолдау көрсет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; 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іліктіліктің түрлі деңгейлерін ескере отырып метрология саласында мамандар оқытудың бірегей қағидаларын орнату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972 жылы өткен 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4-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хал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ар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конференңиясында оның мақсаттары, халықаралық әріптестіктің негізгі міндеттерінің мәнін көрсететін, жалпыланған түжырымдамамен то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рылды. Кейінгі конференцияларда сертификаттаудың және ИСО 9000 халықаралық стандарттарының негізінде сапаны ба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у жүйесін стандарттаудың дамуына байланысты міндеттер то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рылып отырды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ылайша, 1988 жылғы 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8-конференциясында жаңа көкейтесті міндеттер қатарына ИСО 9000 стандартына сәйкес келетін кәсіпорындарда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лданылатын сапаны басқару жүйесін ескере отырып,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үралдарын, оның өндірушісінде салыстырып тексеру әдістеріне зер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у жүргізу бойынша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ыныстар енгізілді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2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Мақсаты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Студенттерді метрология бойынша халықаралық ұйымдармен таныстыру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133720"/>
            <a:ext cx="295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Жоспар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852640"/>
            <a:ext cx="87566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1. Метрология бойынша халықаралық ұйымдардың құрылуының мақстаы мен міндет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2. Өлшемдер мен салмақтарды халықаралық ұйы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3. Халықаралық заңдылық метрология ұйым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атқаруш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сы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–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ң заңдылың метрология комитеті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. 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әрбір мүше елінің өкілдерінен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ды. Өкілдердің өздерінің мемлекет-тері атынан өздеріне міндеттеме алу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ғы жо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 Комитет жанында кеңесші орган - Президент Кеңесі (ХЗМК- нің) қызмет етеді. Оның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ына Халықара-лық заңды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трология бюросының екі вице-президенті мен директоры және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ң заңдылық метрология комитетінің бес белсенді мүшесі кіреді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ешімдер, әдетте жылда өткізілетін Комитет сессияларында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былданады, ал ерекше жағдайларда - хат 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су арқылы Комитеттің қабылдайтын резолюциялары оның бар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мүшелері бірауызды қолдаған кезде жарамды деп танылады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митет пен конференцияның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ын Халықаралық заңдылық метрология бюросы үйлестіреді (ХЗМБ-ы Парижде орналасқан). Бюро ақпараттық мате-риалдарды шығарады,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ттау қорын жүргізеді, метрология саласындағы жетістіктерді насихаттаумен айналысады. Бюро 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ысушыларымен үнемі өзара ақпарат алмасуды жүргізіп отырады, сондай-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әрбір тоқсан сайын «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юллетенін» шығарып отырад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ттардың екі түрін жасайды: халықаралық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ттар (ХҚ) және халықаралың 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ңаулар (ХН). ХҚ директивті сипатта болады және 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жүмысшы органдарына арналады,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а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ХН нүсңаулық сипатта және ХЗМ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-ның мүше елдеріне арналады.ХҚ және ХН ағылшын, француз тілдерінде басылады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мү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 елдерге таратылад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нім с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ын сынау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ме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ақылау, метрологиялық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зертхан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арды сертификатта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жән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ак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едиттеу өлшемдерді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ттық жүйелеріне негізд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ел-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ен қызметтермен байланысты болады. Өнімнің стандарттардың талаптарына сәйкестігін бағалау кезінде түрлі параметрлердегі өлшеулер жүргізіледі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Метрология бойынша халықаралық ұйымдардың құрылуының мақсаты мен міндеті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Яғни,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німнің өзінің сипаттамаларынан басгап, оларды сақтау, тасымалдау және пайдалану кезінде сыртқы әсерлер параметрлеріне дейін. Тауардың міндетті талаптарға сәйкестігін белгілейтін сертификаттаулық сынақтар кезінде өлшемдерді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істемесі мен тәжірибесі нәтижелердің салыстырылуына тура әсер етеді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. 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өз кзегінде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ртификатты мойындаумен тікелей байланыст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әйкесінше, метрология халықаралық сауданың мүдделерін қамтамасыз етеді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. 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ер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д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өлшем нәтижелері мен өнімнің сертификатталуының салыстырылуына қажетті шарты ретінде өлшемдер бірлігі сақталатын болс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, онда б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міндет метрология бойынша халықаралық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р қызметінде ең маңыздысы болып табылад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р қызметінің 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ижесінде әлемнің көптеген елдерінде физикалық шамалар бірлігінің халықаралық жүйесі (СИ), өлшем қүралдарының метрологиялық сипаттамаларын нормалау әдістер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жән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ертификаттау бойынша 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қаулар қабылданған. Халықаралық метрологиялық үйымдар ИСО және МЭК бірлесе отырып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 істейді, ол өлшем қүралдарының кеңірек халықаралық таралуына ықпа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теді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75 жылы 17 ел (солардың ішінде Ресей де) Метрлік конвенңияға қол қойд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. О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ың мақсаты – өлшем бірліктеріні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ттық жүйелерін жаңғырту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ындық пен массаның (метр мен килограмның) бірегей эталондарын орнат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болд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 Осы Конвенция негізінде үкіметаралық Өлшемдер мен салмақтар-дың халықаралық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ы қүрылға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Өлшемдер мен салмақтарды халықаралық ұйым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йымның ресми тілі - француз тілі. 2001 жылы оның мүшелігіне әлемнің 57 мемлекеті кірді. Конвенцияға сәйкес Өлшемдер мен салмақтардың халықаралық бюросы қ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ылған (ӨСХБ). ӨСХБ Францияда орналасқан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. 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ың қызметін Өлшемдер мен салмақтардың халықаралық комитеті (ӨСХК) басқарады. ӨСХК-ның басты тәжірибелік міндеті - өлшемдердің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 түрлі бірліктерінің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ттық эталондарын халықаралық эта- лондармен салыстыру. ӨСХБ 100 мемлекеттік метрологиялық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йымдардың қызметін үйлестіреді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негізгі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ғылыми бағыты - өлшемдердің метрлік жүйесін жетілдір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болып табылад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 ӨСХБ халықаралық эталондарды үнемі жетілдіріп отырады, дәл өлшемдердің жаңа әдістері мен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жасайды және қолданады, негізгі өлшем бірліктерінің жаңа концепцияларын жасайды және ескілерін жаңартады, мүше елдердегі метрологиялық зерттеулерді үйлестіреді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0:16:47Z</dcterms:created>
  <dc:creator>Мади</dc:creator>
  <dc:description/>
  <dc:language>en-US</dc:language>
  <cp:lastModifiedBy>User</cp:lastModifiedBy>
  <dcterms:modified xsi:type="dcterms:W3CDTF">2012-05-31T08:56:37Z</dcterms:modified>
  <cp:revision>10</cp:revision>
  <dc:subject/>
  <dc:title>Таќырыбы:</dc:title>
</cp:coreProperties>
</file>